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A0B-22EF-44DE-BA9D-4F6D1D8B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291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67D-0AC2-474F-85AF-240D10AE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759-5ED7-4D5A-88C1-1C07A0E0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FE4-5F73-4E36-9104-CF0CA521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2FF-6F9E-4E82-80AD-670728B5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D78-2C66-49E6-8330-B9CAC8E2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615-1EF8-4184-90DB-E2B9F39F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578-BE26-4CD3-9170-88C61F1C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0C6-5E99-4244-A127-07311FBB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459-F2EC-44EF-9B18-F0B6B3FB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3F1A-1D20-4A3E-9228-0CD86241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2BB-B1E2-45BE-A680-44273131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2BE1-AC22-44CB-8A2E-151CA49E9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Adorat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your children are writt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n your hands: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are a m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neither forg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r forsakes her 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Isaiah 49: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fore we were born, you knew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our mothers’ womb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formed us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be0e3"/>
                </a:solidFill>
                <a:latin typeface="Arial"/>
              </a:rPr>
              <a:t>Psalm 139: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Before all beginn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ou called us b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Beyond all endings,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ou will remember us in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be0e3"/>
                </a:solidFill>
                <a:latin typeface="Arial"/>
              </a:rPr>
              <a:t>Psalm 139: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, O Wisdom, do not forg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childr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ike a hen, you gather your chicks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Matthew 23:37; Luke 13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27:00Z</dcterms:created>
  <dc:creator>Anon Anon</dc:creator>
  <dc:description/>
  <dc:language>en-US</dc:language>
  <cp:lastModifiedBy>Anon Anon</cp:lastModifiedBy>
  <dcterms:modified xsi:type="dcterms:W3CDTF">2005-08-09T05:06:22Z</dcterms:modified>
  <cp:revision>11</cp:revision>
  <dc:subject/>
  <dc:title>Prayer of Adoration (SLD-2)</dc:title>
</cp:coreProperties>
</file>